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2B5A-A27C-42E1-A707-543187555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FEDB-F19F-48D6-A293-7CFD7141A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A24-D5C3-405E-AC2D-38C414BA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C732-D99A-4BA2-B160-9BE09F4C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1F9-C1FB-47BF-A0A2-8204EE7D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A63-0CFB-4F38-A173-04C6BD85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AC53-6D04-443B-968B-32B94CE0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70DC-341D-4335-80DF-AAA34EDB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573-D519-4F1C-B734-17AB52DB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AAC-757D-452D-9C77-50CDC43F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CC0-0094-4B9F-9913-04D3D8C2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7B3C-EE45-4209-BB50-954F4C57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CFE7-7514-4433-9B93-FE708B65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741-297A-4761-ACDB-50679A98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F8A0-AD95-4863-92DB-A44C5D1FE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16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inder Ka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inder Ka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7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o soy muy enérgica y estúpida pero yo soy perezosa ahora. Yo quiero tener una fiesta pero mi mamá y papá estan en la cas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Maninder. Yo vivo en Jackson Heights. Yo tengo un hermano. Se llama Lucky. Yo soy flaca y muy dulc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7"/>
          <p:cNvSpPr/>
          <p:nvPr/>
        </p:nvSpPr>
        <p:spPr>
          <a:xfrm>
            <a:off x="2743200" y="3886200"/>
            <a:ext cx="35053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e. Yo tengo quiera divertida! ¿por qué no vienes a mi cas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 Aww quiere vivir tu vid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4:57:49Z</dcterms:modified>
  <cp:revision>106</cp:revision>
  <dc:subject/>
  <dc:title>Profile</dc:title>
</cp:coreProperties>
</file>